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2274" t="0" r="75912" b="6670"/>
          <a:stretch/>
        </p:blipFill>
        <p:spPr>
          <a:xfrm>
            <a:off x="304920" y="152280"/>
            <a:ext cx="685800" cy="26672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>
            <a:lum bright="6000"/>
          </a:blip>
          <a:srcRect l="24546" t="0" r="49549" b="0"/>
          <a:stretch/>
        </p:blipFill>
        <p:spPr>
          <a:xfrm>
            <a:off x="228600" y="4038480"/>
            <a:ext cx="762120" cy="266724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>
            <a:lum bright="24000"/>
          </a:blip>
          <a:stretch/>
        </p:blipFill>
        <p:spPr>
          <a:xfrm>
            <a:off x="152280" y="2978280"/>
            <a:ext cx="990720" cy="831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im:  How did Mohandas Gandhi lead a successful and peaceful revolution in India?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62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7160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Comic Sans MS"/>
              </a:rPr>
              <a:t>Do Now:  Copy your vocabulary words in your gloss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ivil disobedienc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active refusal to obey certain laws of a government without resorting to viol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Mohandas Gandhi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s a major political and spiritual leader of In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aste System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rict social class system in Hindui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partheid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s a system of legal racial segregation enforced by the government of South Africa between 1948 and 199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elson Mandela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s the first elected President of South Africa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Samarkan"/>
              </a:rPr>
              <a:t>Gandhi spinning clot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600200" y="1295280"/>
            <a:ext cx="5410080" cy="387828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1600200" y="528948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Indian weaving was ruined by the competition of British machine-made textil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6705720" y="4267080"/>
            <a:ext cx="2266920" cy="151128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3049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Samarkan"/>
              </a:rPr>
              <a:t>Gandhi and His Grandaughters, 194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429000" y="1828800"/>
            <a:ext cx="3429000" cy="472428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ndhi is successful!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a is divided into two new countries in 19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a for the Hind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kistan for the Musli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Gandhi is assassinated in 1948 because he supported peace between the Hindus and the Musli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2880" y="609480"/>
            <a:ext cx="38102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Samarkan"/>
              </a:rPr>
              <a:t>Partition!</a:t>
            </a:r>
            <a:r>
              <a:rPr b="1" lang="en-US" sz="4800" spc="-1" strike="noStrike">
                <a:solidFill>
                  <a:srgbClr val="cc3300"/>
                </a:solidFill>
                <a:latin typeface="Samark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724280" y="2209680"/>
            <a:ext cx="4191120" cy="30625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523880" y="304920"/>
            <a:ext cx="3019680" cy="30477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2514600" y="5181480"/>
            <a:ext cx="2057400" cy="1366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828800" y="3505320"/>
            <a:ext cx="205740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rt and Discuss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with your group to sort the sources at your table in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an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thods of Gandh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piece summarize what information you gained in your own words in the right colum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ggle for In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) India was a British colony since 1700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) Amristar Massacre: April 13th, 1919  British soldiers fired on a group of peaceful, unarmed Indian protestors (379 killed and 1,100 wound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) WW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*Many Indians fought in the British army in support of the Al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*They were promised more self government but after the war this never happe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Samarkan"/>
              </a:rPr>
              <a:t>Amritsar Massacre, 191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59580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379 dead;  over 1200 wound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752480" y="1371600"/>
            <a:ext cx="6934320" cy="41911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Mohandas Gandh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29492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om a middle class Hindu fami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 was later called Mahatma or “Great Sou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Studied law in India at 19, used his education to fight injustice against Indians in another British colony, South Afr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ndhi believed in civil disobedi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371600" y="228240"/>
            <a:ext cx="77724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He wanted an end to British rule as well as changes in India to the Hindu Caste system, he urged equal rights for all India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ethods:  boycotts, creation and weaving of only Indian made products, non- violent methods, fasting and starv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alt March 1930-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Gandhi marched with 75 other non violent protestors against the British salt tax which was attempting to create a British monopoly on the sale and production of sa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560" y="274680"/>
            <a:ext cx="75438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Young Gandh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76720" y="1981080"/>
            <a:ext cx="3949560" cy="44197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3300"/>
                </a:solidFill>
                <a:latin typeface="Arial"/>
              </a:rPr>
              <a:t>Gandhi as a Lawyer in </a:t>
            </a:r>
            <a:br>
              <a:rPr sz="4200"/>
            </a:br>
            <a:r>
              <a:rPr b="1" lang="en-US" sz="4200" spc="-1" strike="noStrike">
                <a:solidFill>
                  <a:srgbClr val="cc3300"/>
                </a:solidFill>
                <a:latin typeface="Arial"/>
              </a:rPr>
              <a:t>Johannesburg, So. Afric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201840" y="1752480"/>
            <a:ext cx="3961080" cy="480060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69343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Samarkan"/>
              </a:rPr>
              <a:t>Salt March, 193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4952880" cy="270036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48320" y="3809880"/>
            <a:ext cx="3962160" cy="274320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2819520" y="5607000"/>
            <a:ext cx="175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Making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S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02:44:25Z</dcterms:created>
  <dc:creator>NYCDOE</dc:creator>
  <dc:description/>
  <dc:language>en-US</dc:language>
  <cp:lastModifiedBy>NYCDOE</cp:lastModifiedBy>
  <dcterms:modified xsi:type="dcterms:W3CDTF">2011-02-08T16:14:37Z</dcterms:modified>
  <cp:revision>6</cp:revision>
  <dc:subject/>
  <dc:title>Aim:  How did Mohandas Gandhi lead a successful and peaceful revolution in India? L62 </dc:title>
</cp:coreProperties>
</file>